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46.jpeg" ContentType="image/jpeg"/>
  <Override PartName="/ppt/media/image44.jpeg" ContentType="image/jpeg"/>
  <Override PartName="/ppt/media/image45.png" ContentType="image/png"/>
  <Override PartName="/ppt/media/image49.jpeg" ContentType="image/jpeg"/>
  <Override PartName="/ppt/media/image47.jpeg" ContentType="image/jpeg"/>
  <Override PartName="/ppt/media/image52.jpeg" ContentType="image/jpeg"/>
  <Override PartName="/ppt/media/image48.jpeg" ContentType="image/jpeg"/>
  <Override PartName="/ppt/media/image53.jpeg" ContentType="image/jpeg"/>
  <Override PartName="/ppt/media/image55.jpeg" ContentType="image/jpeg"/>
  <Override PartName="/ppt/media/image57.jpeg" ContentType="image/jpeg"/>
  <Override PartName="/ppt/media/image54.png" ContentType="image/png"/>
  <Override PartName="/ppt/media/image41.jpeg" ContentType="image/jpeg"/>
  <Override PartName="/ppt/media/image58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35.png" ContentType="image/png"/>
  <Override PartName="/ppt/media/image31.jpeg" ContentType="image/jpeg"/>
  <Override PartName="/ppt/media/image3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6244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-453960" y="-360"/>
            <a:ext cx="7726320" cy="579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산돌고딕B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6244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35EC13B-D86F-4134-A993-0205D633D53F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왕립과학아카데미의 거대한 렌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857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세포이 항쟁 </a:t>
            </a: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영국정부는 전신과 같은 빠른 통신망의 필요성 절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898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파쇼다 사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영국 전신망의 승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저전신 가설 과정에서 물리학자들의 입지 높아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Atlantic cable, promoted by American entrepreneur, Cyrus Field (1819-1892), was a major Anglo-American enterprise that led to closer relations between Britain and the United States. Between 1857 and 1866 five expeditions attempted to span the Atlantic with a cable. A cable was successfully laid in 1858, but operated for only a month. Efforts were resumed after the American Civil War and in 1866 success was achieved; Field rejoiced that it was like "clasping hands across the sea."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제의식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전화 네트워크가 갖추어진 후 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30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년이 지나도록 벨 전화회사는 자동교환시스템을 도입하는 데 우유부단한 태도를 보였고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, 1920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년대에 이르러서야 완전 자동화를 시도하게 된다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. 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왜 그랬을까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제의 본질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벨 전화회사가 자동교환시스템 도입을 꺼렸던 이유는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, 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이에 작용했던 기술적 경제적 요인들뿐 아니라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, 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사회적 문화적 요인을 함께 고려해야 이해할 수 있다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술적으로 불가능한 시스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190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까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86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 달하는 자동교환시스템 특허 출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불완전한 기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술적 측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안정성이 확보되지 않은 복잡한 장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경제적 측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지보수를 위해 고임금의 전기기술자 고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지만 더 중요한 이유는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1" lang="ko-KR" sz="1200" spc="-1" strike="noStrike">
                <a:solidFill>
                  <a:srgbClr val="333399"/>
                </a:solidFill>
                <a:latin typeface="굴림"/>
              </a:rPr>
              <a:t>고객</a:t>
            </a:r>
            <a:r>
              <a:rPr b="1" lang="ko-KR" sz="1200" spc="-1" strike="noStrike">
                <a:solidFill>
                  <a:srgbClr val="333399"/>
                </a:solidFill>
                <a:latin typeface="굴림"/>
              </a:rPr>
              <a:t>-</a:t>
            </a:r>
            <a:r>
              <a:rPr b="1" lang="ko-KR" sz="1200" spc="-1" strike="noStrike">
                <a:solidFill>
                  <a:srgbClr val="333399"/>
                </a:solidFill>
                <a:latin typeface="굴림"/>
              </a:rPr>
              <a:t>교환원 간에 맺어진 규범적 관계에 위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전신선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not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전화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헤르츠의 실험장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헤르츠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987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전자기파를 발생시키고 검출한 실험장치로서 왼쪽은 발생장치이고 오른쪽은 검출장치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생장치는 놋쇠로 만든 둥근 전극을 아주 가까이 두고 이것에 고전압을 걸어서 공기중에서 방전이 일어나게 한 것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한편 이렇게 해서 만들어진 전자기파를 고리모양의 원형도선에서 잡아 이 결과 위쪽의 조그만한 전극에서 작은 불꽃의 방전이 일어나게 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포포프의 수신기도 마르코니와 거의 유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러더퍼드의 경우 꽤나 전신 발명의 성공적인 길을 가는 듯 했으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도교수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J. J. Thompson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연구주제를 정해주자 송신거리 연구 중단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크룩스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선전신 예측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술적인 문제 무시한 소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?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물리학자 러더퍼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등대 응용 고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1.5mil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까지 전송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장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군장교 잭슨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모스 프린터 달아서 실험 </a:t>
            </a: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송신 거리 한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당대의 실험 물리학자들은 빛과 전자기파의 유사성 연구에 몰두했으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송거리 연장에 큰 관심을 보이지 않았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당시 전신기사들은 물리학자들의 소유물이자 전송거리도 짧았던 전자기파에 별 관심이 없었을 뿐만 아니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미 통신기술로 확고히 자리를 잡은 유선전신 네트워크를 보다 완전히 하고 확대하는 데 주력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들과 달리 마르코니는 애초부터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"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헤르츠의 전자기파를 이용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발명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"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는 목표를 가졌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 덕분에 그 목표 성취의 문제인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"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신호 전달의 강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", "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신호 수신의 민감도와 안정성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"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문제를 부각시켜 볼 수 있었으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행착오를 통해 그 문제를 각개격파할 수 있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 무선전신을 유선전신에 유비하고 그것의 구성요소들을 대칭적으로 바라봤던 마르코니는 물리학자들은 상상할 수 없었던 독창적인 시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e.g.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전기 부착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안테나의 접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통해 실용적인 무선전신 발명에 성공할 수 있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C &amp; M: man of vision, lacked scientific understanding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Wheatstone: scientific &amp; technical skills;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전신이 상업적으로 중요해질 비전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흔히 마르코니의 업적은 당시 다방면으로 진행되던 무선전신 구성요소들의 개량을 한 데 모아놓은 것으로 평가되곤 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실 마르코니의 전신장치 속에 들어있던 것은 맥스웰주의 물리학자들의 실험장치였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렇기에 마르코니가 자신의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"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블랙박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"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열었을 때 이는 물리학자들에게 많은 충격을 주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지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것만은 아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과학의 맥락과 기술의 맥락 구분해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마르코니는 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마도 그에게 가장 큰 문제는 송신 거리였기 때문에 관심이 없었을 수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의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open circuit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 의한 지저분한 신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dirty wave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광대역 신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는 수신율 향상의 한 가지 요인이기도 했는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때문에 알면서 숨겼을 수도 있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선전신은 동조 시스템 없이도 가능했기 때문에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파 사용자가 없었던 시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동조의 필요성을 아예 생각하지 못했을 수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노프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곧이어 초고속 승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회사내 서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위까지 올라간 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RCA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회장이 되어 미디어 황제가 됨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CQ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는 원래 전신에서의 호출 신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마르코니 회사에서 긴급호출용으로 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D(istress call)”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붙여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CQ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 됨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널리 사용되었지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국제 표준이 된 적은 없었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"Come Quick, Danger", "Come Quick - Drowning!" or "Come Quick, Dammit!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등으로도 해석되곤 하지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는 이후에 붙여진 애칭들일 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932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ITU(International Telegraph Union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발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302-B9CB-4DE5-BB35-0BD7E447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CF7A-49CB-4B1C-A18D-95614152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527-D2C1-43AF-B4F4-2F206F6F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3E6-B4C7-4594-8B8F-8F2BEA3A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D3C3-FAE0-4755-81EB-48CFC3DD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8C44-04FA-4F55-8C64-78FAA856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1F61-6716-440B-9D7C-1A643D4E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29EC-1DDD-4EFE-A342-1EFCB037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0E47-CCC6-421F-9B18-6389E769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BFEC-2DF2-46CF-8779-2510FFFB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49DF-9AD8-4904-B6FC-86F3C1DD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F506-A35A-467E-97D9-BEB4830C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3E0A-795D-49AA-8605-D5CE3A39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A0A8-06CE-4158-9D53-12B3EB17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4190-BB90-4A0F-87AC-829F9A09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191C-4D56-4035-8833-E0822CA3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CB65-8F68-4FD6-AEFE-25E14A2E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E054-CA82-4F21-9387-1BCC7DE5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F52-DAF8-4A7A-90D9-37232180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052F-2D4F-4394-AFE6-B3E99F52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8B86-B61C-4DFE-8CEB-6917DD41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3A28-7F59-4CEE-B37B-5398FD5A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FCEC-F06D-45A5-BA54-9A8AD6E6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182B-F982-4358-99E3-02FC6816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Click to edit the title text format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803A-DEB9-4D35-9C84-479FB8314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산돌고딕B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DD03-7AFC-44FC-9C62-4593DB3B5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산돌고딕B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산돌고딕 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산돌고딕 L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emory.loc.gov/mss/magbell/253/25300201/0022.jpg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emory.loc.gov/mss/magbell/253/25300201/0022.jpg" TargetMode="External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rivateline.com/circuits/international_op_position.jpg" TargetMode="External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tochastix.files.wordpress.com/2007/03/wirelesstechnology.jpg" TargetMode="External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산돌고딕B"/>
              </a:rPr>
              <a:t>통신기술 </a:t>
            </a:r>
            <a:r>
              <a:rPr b="1" lang="en-US" sz="5400" spc="-1" strike="noStrike">
                <a:solidFill>
                  <a:srgbClr val="cc0000"/>
                </a:solidFill>
                <a:latin typeface="산돌고딕B"/>
              </a:rPr>
              <a:t>:</a:t>
            </a:r>
            <a:br>
              <a:rPr sz="5400"/>
            </a:br>
            <a:r>
              <a:rPr b="1" lang="zh-CN" sz="4000" spc="-1" strike="noStrike">
                <a:solidFill>
                  <a:srgbClr val="000000"/>
                </a:solidFill>
                <a:latin typeface="산돌고딕B"/>
              </a:rPr>
              <a:t>전신</a:t>
            </a:r>
            <a:r>
              <a:rPr b="1" lang="en-US" sz="40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산돌고딕B"/>
              </a:rPr>
              <a:t>전화</a:t>
            </a:r>
            <a:r>
              <a:rPr b="1" lang="en-US" sz="40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산돌고딕B"/>
              </a:rPr>
              <a:t>무선전신</a:t>
            </a:r>
            <a:endParaRPr b="1" lang="en-US" sz="4000" spc="-1" strike="noStrike">
              <a:solidFill>
                <a:srgbClr val="cc0000"/>
              </a:solidFill>
              <a:latin typeface="산돌고딕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3764160" cy="2415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574640" y="4952880"/>
            <a:ext cx="442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Morse</a:t>
            </a:r>
            <a:r>
              <a:rPr b="1" lang="zh-CN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의 두 번째 전신 수신기와                    프린터 </a:t>
            </a:r>
            <a:r>
              <a:rPr b="1" lang="en-US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1844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932360" y="2205000"/>
            <a:ext cx="31687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4292640"/>
            <a:ext cx="75610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ko-KR" sz="1800" spc="-1" strike="noStrike">
                <a:solidFill>
                  <a:srgbClr val="000000"/>
                </a:solidFill>
                <a:latin typeface="Georgia"/>
              </a:rPr>
              <a:t>WHAT HATH GOD WROUGHT”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미국 국회도서관에 보관되어 있는 최초의 공식 모스 전신 전송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워싱턴</a:t>
            </a:r>
            <a:r>
              <a:rPr b="0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볼티모어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, 1844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년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5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월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24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일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기록지</a:t>
            </a: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엠보싱 리본 종이에 점과 선으로 출력</a:t>
            </a: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전송 문구는 특허국장의 딸 </a:t>
            </a: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Annie Ellsworth</a:t>
            </a: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가 고른 것으로</a:t>
            </a: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성경 </a:t>
            </a: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23:23</a:t>
            </a: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의 구절이다</a:t>
            </a: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756108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전신의 용도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용도가 분명치 않았던 초기 전신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“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누가”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“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왜” 돈을 내고 메시지를 빨리 보낼 것인가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?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그렇지만 곧 수요 출현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영국의 경우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1843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년 철도 상행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하행선 정보를 교환하기 위해 첫 개설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1845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년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Tawell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사건 </a:t>
            </a: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언론이 전신을 이용하기 시작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1850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년이 되면 이미 영국 내에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2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천 마일의 전신선 설치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미국의 경우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언론이 첫 고객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: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1846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년 멕시코 전쟁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7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일거리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 </a:t>
            </a: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최초의 미디어 사건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주식 정보를 원하는 은행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투자기관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군부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철도회사로 확산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몇 년 사이에 전신 붐이 일어남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; 10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년 동안에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3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만 마일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Tawell 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사건 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(1945)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9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1845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년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1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월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1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일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Slough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에서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	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애인을 살해한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John Tawell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이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	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런던으로 열차를 타고 도망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당시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Slough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에서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London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으로 보낸 전신 문구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ko-KR" sz="21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100" spc="-1" strike="noStrike">
                <a:solidFill>
                  <a:srgbClr val="000000"/>
                </a:solidFill>
                <a:latin typeface="Georgia"/>
              </a:rPr>
              <a:t>A murder has just been committed at Salt Hill and the suspected murderer was seen to take a first class ticket to London by the train that left Slough at 7.42pm. He is in the garb of a Kwaker with a brown great coat on which reaches his feet. He is in the last compartment of the second first-class carriage”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ko-KR" sz="2100" spc="-1" strike="noStrike">
                <a:solidFill>
                  <a:srgbClr val="cc0000"/>
                </a:solidFill>
                <a:latin typeface="산돌고딕B"/>
              </a:rPr>
              <a:t>이 문구를 보내는 데 사용된 전신기가 바로 </a:t>
            </a:r>
            <a:r>
              <a:rPr b="0" lang="ko-KR" sz="2100" spc="-1" strike="noStrike">
                <a:solidFill>
                  <a:srgbClr val="cc0000"/>
                </a:solidFill>
                <a:latin typeface="산돌고딕B"/>
              </a:rPr>
              <a:t>2-</a:t>
            </a:r>
            <a:r>
              <a:rPr b="0" lang="ko-KR" sz="2100" spc="-1" strike="noStrike">
                <a:solidFill>
                  <a:srgbClr val="cc0000"/>
                </a:solidFill>
                <a:latin typeface="산돌고딕B"/>
              </a:rPr>
              <a:t>바늘 전신기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런던에서 체포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!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629320" y="0"/>
            <a:ext cx="35146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전신의 확장 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: “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제국의 신경망”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해저 전신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영국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프랑스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1852)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영국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미국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1866)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영국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인도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1866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경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왜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?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영국의 경우 해저전신은 식민지 통치에 결정적 역할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세포이 항쟁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(1857) vs.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파쇼다 사건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(1898)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19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세기 말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영국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-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인도 매년 </a:t>
            </a:r>
            <a:r>
              <a:rPr b="1" lang="ko-KR" sz="2100" spc="-1" strike="noStrike">
                <a:solidFill>
                  <a:srgbClr val="cc0000"/>
                </a:solidFill>
                <a:latin typeface="산돌고딕 L"/>
              </a:rPr>
              <a:t>2</a:t>
            </a:r>
            <a:r>
              <a:rPr b="1" lang="ko-KR" sz="2100" spc="-1" strike="noStrike">
                <a:solidFill>
                  <a:srgbClr val="cc0000"/>
                </a:solidFill>
                <a:latin typeface="산돌고딕 L"/>
              </a:rPr>
              <a:t>백만 통의 전보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해저 전신 및 전신 확장의 영향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국제전신연합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International Telegraph Union, 1865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국가간 전신 메시지의 송수신 절차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표준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가격 결정 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전신의 어려움 해결 과정에서 물리학의 입지 상승 및 변화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초장거리 전신의 문제 </a:t>
            </a:r>
            <a:r>
              <a:rPr b="1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 톰슨의 거울 검류계 </a:t>
            </a:r>
            <a:br>
              <a:rPr sz="2100"/>
            </a:br>
            <a:r>
              <a:rPr b="1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 톰슨의 지위 상승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&amp;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대학 실험실의 도구로 정착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저항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전류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전압 등 물리학 표준 단위의 확립과 정밀 측정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지하 전신의 신호 지연 문제 </a:t>
            </a:r>
            <a:r>
              <a:rPr b="1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 장이론에 기반한 문제 해결</a:t>
            </a:r>
            <a:br>
              <a:rPr sz="2100"/>
            </a:br>
            <a:r>
              <a:rPr b="1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 영국내 장이론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사용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)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확산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55640" y="357120"/>
            <a:ext cx="7920000" cy="59007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47" name=""/>
          <p:cNvSpPr/>
          <p:nvPr/>
        </p:nvSpPr>
        <p:spPr>
          <a:xfrm>
            <a:off x="3731400" y="6319800"/>
            <a:ext cx="18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1913</a:t>
            </a:r>
            <a:r>
              <a:rPr b="1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년의 세계 전신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66680"/>
            <a:ext cx="8163000" cy="6691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258920" y="260280"/>
            <a:ext cx="6192720" cy="459720"/>
          </a:xfrm>
          <a:prstGeom prst="rect">
            <a:avLst/>
          </a:prstGeom>
          <a:solidFill>
            <a:srgbClr val="336699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산돌고딕 M"/>
                <a:ea typeface="산돌고딕 M"/>
              </a:rPr>
              <a:t>세계 </a:t>
            </a:r>
            <a:r>
              <a:rPr b="0" lang="en-US" sz="2400" spc="-1" strike="noStrike">
                <a:solidFill>
                  <a:srgbClr val="ffffff"/>
                </a:solidFill>
                <a:latin typeface="산돌고딕 M"/>
                <a:ea typeface="산돌고딕 M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산돌고딕 M"/>
                <a:ea typeface="산돌고딕 M"/>
              </a:rPr>
              <a:t>번째 불가사의</a:t>
            </a:r>
            <a:r>
              <a:rPr b="0" lang="en-US" sz="2400" spc="-1" strike="noStrike">
                <a:solidFill>
                  <a:srgbClr val="ffffff"/>
                </a:solidFill>
                <a:latin typeface="산돌고딕 M"/>
                <a:ea typeface="산돌고딕 M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산돌고딕 M"/>
                <a:ea typeface="산돌고딕 M"/>
              </a:rPr>
              <a:t>대서양 케이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67690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538308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061680" y="245268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세기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Cyber lov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전신의 문제점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?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훈련된 사람들만이 전신을 쓸 수 있다는 문제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보통 사람이 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office</a:t>
            </a: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에서 전신을 쓸 수 있는 방법 필요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Q: 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이러한 기술적 필요가 “전화”를 낳았는가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?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A: 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전신 시스템은 매우 효과적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전보 심부름꾼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(messenger boy)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851280" y="3251160"/>
            <a:ext cx="482616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전신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(</a:t>
            </a:r>
            <a:r>
              <a:rPr b="0" lang="zh-CN" sz="3800" spc="-1" strike="noStrike">
                <a:solidFill>
                  <a:srgbClr val="cc0000"/>
                </a:solidFill>
                <a:latin typeface="산돌고딕B"/>
              </a:rPr>
              <a:t>傳信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, Telegraphy)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산돌고딕B"/>
              </a:rPr>
              <a:t>교통과 통신을 분리시킨 첫 번째 기술</a:t>
            </a:r>
            <a:r>
              <a:rPr b="0" lang="en-US" sz="3000" spc="-1" strike="noStrike">
                <a:solidFill>
                  <a:srgbClr val="000000"/>
                </a:solidFill>
                <a:latin typeface="산돌고딕B"/>
              </a:rPr>
              <a:t>? No!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산돌고딕 M"/>
              </a:rPr>
              <a:t>electric telegraph </a:t>
            </a:r>
            <a:r>
              <a:rPr b="0" lang="zh-CN" sz="2600" spc="-1" strike="noStrike">
                <a:solidFill>
                  <a:srgbClr val="000000"/>
                </a:solidFill>
                <a:latin typeface="산돌고딕 M"/>
              </a:rPr>
              <a:t>이전에 </a:t>
            </a:r>
            <a:r>
              <a:rPr b="0" lang="en-US" sz="2600" spc="-1" strike="noStrike">
                <a:solidFill>
                  <a:srgbClr val="000000"/>
                </a:solidFill>
                <a:latin typeface="산돌고딕 M"/>
              </a:rPr>
              <a:t>optical telegraph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산돌고딕 M"/>
              </a:rPr>
              <a:t>그 이전엔</a:t>
            </a:r>
            <a:r>
              <a:rPr b="0" lang="en-US" sz="2600" spc="-1" strike="noStrike">
                <a:solidFill>
                  <a:srgbClr val="000000"/>
                </a:solidFill>
                <a:latin typeface="산돌고딕 M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26920" y="2924280"/>
            <a:ext cx="2241720" cy="3549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348000" y="2924280"/>
            <a:ext cx="2251080" cy="360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724360" y="2924280"/>
            <a:ext cx="2568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7632720" cy="6041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635280" y="638172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estern Un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전화의 동시 발명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Georgia"/>
              </a:rPr>
              <a:t>Alexander Graham Bell</a:t>
            </a:r>
            <a:r>
              <a:rPr b="0" lang="ko-KR" sz="3000" spc="-1" strike="noStrike">
                <a:solidFill>
                  <a:srgbClr val="000000"/>
                </a:solidFill>
                <a:latin typeface="산돌고딕B"/>
              </a:rPr>
              <a:t> vs. </a:t>
            </a:r>
            <a:r>
              <a:rPr b="0" lang="ko-KR" sz="3000" spc="-1" strike="noStrike">
                <a:solidFill>
                  <a:srgbClr val="000000"/>
                </a:solidFill>
                <a:latin typeface="Georgia"/>
              </a:rPr>
              <a:t>Elisha Gray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443640" y="2276640"/>
            <a:ext cx="2381400" cy="3143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285960" y="56102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</a:rPr>
              <a:t>Elisha Gray (1835-1901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rcRect l="15181" t="0" r="7591" b="0"/>
          <a:stretch/>
        </p:blipFill>
        <p:spPr>
          <a:xfrm>
            <a:off x="693720" y="2276640"/>
            <a:ext cx="2617920" cy="4464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564000" y="2276640"/>
            <a:ext cx="2308320" cy="307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323880" y="5589720"/>
            <a:ext cx="27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lexander Graham Be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(1847-1922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Elisha Gray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전신 전문가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(32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세 때 전신 중계기 특허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)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이자 </a:t>
            </a:r>
            <a:br>
              <a:rPr sz="2100"/>
            </a:b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당시 미국 전신을 독점하던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Western Union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의 </a:t>
            </a:r>
            <a:br>
              <a:rPr sz="2100"/>
            </a:b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협력업체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Gray &amp; Barton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사의 대표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나중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Western Electric) 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1874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년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우연히 특정한 톤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(tone)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이 전달되는 현상 발견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이를 다중전신기 또는 음악 전신 개발에 응용할 생각을 함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음성 전송의 가능성 알아챘지만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전화는 장난감 정도라 생각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그레이의 변리사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“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전화는 과학적으로 신기한 물건에 불과하다”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1876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년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2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월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14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일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목소리를 송수신하는 발명에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caveat(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특허권보호신청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냄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그러나 몇 시간 전에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Bell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이 같은 발명품에 대한 특허 신청 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장난감에 대해서 법정 분쟁을 할 필요가 없다는 변리사와 재정후원자의 조언에 따라 법정 소송 철회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 나중에 후회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Alexander Graham Bell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전신 전문가 아닌 농아학교 교사</a:t>
            </a:r>
            <a:r>
              <a:rPr b="1" lang="en-US" sz="21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소리를 가시화하는 데 관심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학생 </a:t>
            </a:r>
            <a:r>
              <a:rPr b="1" lang="en-US" sz="2100" spc="-1" strike="noStrike">
                <a:solidFill>
                  <a:srgbClr val="000000"/>
                </a:solidFill>
                <a:latin typeface="산돌고딕B"/>
              </a:rPr>
              <a:t>Mabel Hubbard</a:t>
            </a: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과 사랑에 빠짐</a:t>
            </a:r>
            <a:r>
              <a:rPr b="1" lang="en-US" sz="21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아버지 </a:t>
            </a:r>
            <a:r>
              <a:rPr b="1" lang="en-US" sz="2100" spc="-1" strike="noStrike">
                <a:solidFill>
                  <a:srgbClr val="000000"/>
                </a:solidFill>
                <a:latin typeface="산돌고딕B"/>
              </a:rPr>
              <a:t>Gardiner Hubbard</a:t>
            </a: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는 전신사업 투자자</a:t>
            </a:r>
            <a:r>
              <a:rPr b="1" lang="en-US" sz="2100" spc="-1" strike="noStrike">
                <a:solidFill>
                  <a:srgbClr val="000000"/>
                </a:solidFill>
                <a:latin typeface="산돌고딕B"/>
              </a:rPr>
              <a:t>. Bell</a:t>
            </a: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에게 결혼의 조건으로 다중전신기를 발명해서 돈을 벌 것을 요구</a:t>
            </a:r>
            <a:r>
              <a:rPr b="1" lang="en-US" sz="21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그러나 </a:t>
            </a:r>
            <a:r>
              <a:rPr b="1" lang="en-US" sz="2100" spc="-1" strike="noStrike">
                <a:solidFill>
                  <a:srgbClr val="000000"/>
                </a:solidFill>
                <a:latin typeface="산돌고딕B"/>
              </a:rPr>
              <a:t>Bell</a:t>
            </a: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은 처음부터 음성 전신에 연구의 초점을 맞춤 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산돌고딕B"/>
              </a:rPr>
              <a:t>1875</a:t>
            </a: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년에 전화에 대한 기본 아이디어를 생각해 냄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산돌고딕B"/>
              </a:rPr>
              <a:t>1876</a:t>
            </a: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년 </a:t>
            </a:r>
            <a:r>
              <a:rPr b="1" lang="en-US" sz="2100" spc="-1" strike="noStrike">
                <a:solidFill>
                  <a:srgbClr val="000000"/>
                </a:solidFill>
                <a:latin typeface="산돌고딕B"/>
              </a:rPr>
              <a:t>2</a:t>
            </a: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월 </a:t>
            </a:r>
            <a:r>
              <a:rPr b="1" lang="en-US" sz="2100" spc="-1" strike="noStrike">
                <a:solidFill>
                  <a:srgbClr val="000000"/>
                </a:solidFill>
                <a:latin typeface="산돌고딕B"/>
              </a:rPr>
              <a:t>14</a:t>
            </a: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일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Bell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이 아닌 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Hubbard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가 특허 신청 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전신에 대한 관심 때문에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특허 제목도 “전신 개량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(Improvement in Telegraphy)”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특허 말미에 간단하게 목소리의 전달 기구 설명한 정도 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당시는 아직도 또렷한 말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(speech)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을 전송하지 못하던 상태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그럼에도 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월 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일 특허를 받음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; 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이후 집중실험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월 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일 성공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74" name="" descr="Image, Source: b&amp;w film copy neg."/>
          <p:cNvPicPr/>
          <p:nvPr/>
        </p:nvPicPr>
        <p:blipFill>
          <a:blip r:embed="rId2"/>
          <a:stretch/>
        </p:blipFill>
        <p:spPr>
          <a:xfrm>
            <a:off x="324000" y="189000"/>
            <a:ext cx="8424720" cy="6054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 flipH="1">
            <a:off x="5148000" y="1341360"/>
            <a:ext cx="14436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998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The Patent for the Alexander Graham Bell Telephone - Page One"/>
          <p:cNvPicPr/>
          <p:nvPr/>
        </p:nvPicPr>
        <p:blipFill>
          <a:blip r:embed="rId2"/>
          <a:stretch/>
        </p:blipFill>
        <p:spPr>
          <a:xfrm>
            <a:off x="0" y="17640"/>
            <a:ext cx="4762440" cy="6840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The Patent for the Alexander Graham Bell Telephone - Drawing Two"/>
          <p:cNvPicPr/>
          <p:nvPr/>
        </p:nvPicPr>
        <p:blipFill>
          <a:blip r:embed="rId3"/>
          <a:stretch/>
        </p:blipFill>
        <p:spPr>
          <a:xfrm>
            <a:off x="5148360" y="260280"/>
            <a:ext cx="363852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Bell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의 성공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. But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1876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년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3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월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10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일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br>
              <a:rPr sz="2600"/>
            </a:b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“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왓슨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이리 와봐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좀 보세”</a:t>
            </a:r>
            <a:br>
              <a:rPr sz="2600"/>
            </a:b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(Mr. Watson, come here. I want to see you)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1876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년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7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월 필라델피아 전시회에서의 능숙한 시연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But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관심을 거의 끌지 못함 </a:t>
            </a: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주문 의뢰 없음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Hubbard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는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Western Union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에 벨의 특허를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10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만 불에 팔아 버리려 함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.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이마저도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WU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의 거절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결국 독자적으로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Bell Telephone Company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창립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1877)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결혼이 허가됨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; Bell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은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Mabel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에게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1500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주를 결혼 선물로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Image 22 of 55, Notebook by Alexander Graham Bell, from 1875 to  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2437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088640" y="6245280"/>
            <a:ext cx="546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1876</a:t>
            </a:r>
            <a:r>
              <a:rPr b="0" lang="zh-CN" sz="14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년 </a:t>
            </a:r>
            <a:r>
              <a:rPr b="0" lang="en-US" sz="14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월 </a:t>
            </a:r>
            <a:r>
              <a:rPr b="0" lang="en-US" sz="14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일 </a:t>
            </a:r>
            <a:r>
              <a:rPr b="0" lang="en-US" sz="14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first speech transmission</a:t>
            </a:r>
            <a:r>
              <a:rPr b="0" lang="zh-CN" sz="14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이 성공했을 때 이를 기록한 노트북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전화 사업을 둘러싼 분쟁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Western Union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의 전화에 대한 관심과 실패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Bell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이 소규모로 전화를 가설하자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Western Union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이 이에 관심 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Edison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에 의뢰하여 탄소 송화기 만들어 경쟁 시도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Gray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의 특허 소송 지원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but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패소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결국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Bell Co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가 전신을 침범하지 않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WU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도 전화에서 손을 떼는 것으로 마무리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미국에서 전화 특허는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1877-1894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까지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Bell Co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가 독점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 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1894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년 특허 만료 이후 경쟁 상태 돌입 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Bell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은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1907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년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American Telephone &amp; Telegraph (AT&amp;T)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설립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미국 내 장거리 전화 사업 독식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프랑스는 국유화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비싼 가격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저통화율 유지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; 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영국은 작은 회사 난립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.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우체국에서 총괄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전화의 용도는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?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1920</a:t>
            </a: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년대 전까지 가정에서 전화 사용 안 함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그렇다면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전화 사용료는 매우 비쌌음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. 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한달 사용료가 평균 급료의 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1/3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선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대부분 전화는 기업에서 사용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전신의 연장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전화기를 대여해서 돈을 범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사무실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사무실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사무실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현장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교환기의 개발과 여성 전화 교환원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교환원으로 젊은 여성이 대규모로 고용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자동 교환 기술이 나온 뒤에도 여성 교환원 시스템 유지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. 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왜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?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산돌고딕 L"/>
              </a:rPr>
              <a:t>경제적</a:t>
            </a:r>
            <a:r>
              <a:rPr b="1" lang="en-US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zh-CN" sz="2100" spc="-1" strike="noStrike">
                <a:solidFill>
                  <a:srgbClr val="000000"/>
                </a:solidFill>
                <a:latin typeface="산돌고딕 L"/>
              </a:rPr>
              <a:t>기술적</a:t>
            </a:r>
            <a:r>
              <a:rPr b="1" lang="en-US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zh-CN" sz="2100" spc="-1" strike="noStrike">
                <a:solidFill>
                  <a:srgbClr val="cc0000"/>
                </a:solidFill>
                <a:latin typeface="산돌고딕 L"/>
              </a:rPr>
              <a:t>문화적</a:t>
            </a:r>
            <a:r>
              <a:rPr b="1" lang="en-US" sz="2100" spc="-1" strike="noStrike">
                <a:solidFill>
                  <a:srgbClr val="000000"/>
                </a:solidFill>
                <a:latin typeface="산돌고딕 L"/>
              </a:rPr>
              <a:t> 요인 있음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1920-30</a:t>
            </a: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년대 이후에야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가정주부가 전화를 사용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; 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일상의 수다용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580000" y="1484280"/>
            <a:ext cx="316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산돌고딕 M"/>
              </a:rPr>
              <a:t>3000mile </a:t>
            </a:r>
            <a:r>
              <a:rPr b="0" lang="zh-CN" sz="2600" spc="-1" strike="noStrike">
                <a:solidFill>
                  <a:srgbClr val="000000"/>
                </a:solidFill>
                <a:latin typeface="산돌고딕 M"/>
              </a:rPr>
              <a:t>커버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산돌고딕 M"/>
              </a:rPr>
              <a:t>80mile/3</a:t>
            </a:r>
            <a:r>
              <a:rPr b="0" lang="zh-CN" sz="2600" spc="-1" strike="noStrike">
                <a:solidFill>
                  <a:srgbClr val="000000"/>
                </a:solidFill>
                <a:latin typeface="산돌고딕 M"/>
              </a:rPr>
              <a:t>분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산돌고딕 M"/>
              </a:rPr>
              <a:t>용도는</a:t>
            </a:r>
            <a:r>
              <a:rPr b="0" lang="en-US" sz="2600" spc="-1" strike="noStrike">
                <a:solidFill>
                  <a:srgbClr val="000000"/>
                </a:solidFill>
                <a:latin typeface="산돌고딕 M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산돌고딕 M"/>
              </a:rPr>
              <a:t>언제까지 사용</a:t>
            </a:r>
            <a:r>
              <a:rPr b="0" lang="en-US" sz="2600" spc="-1" strike="noStrike">
                <a:solidFill>
                  <a:srgbClr val="000000"/>
                </a:solidFill>
                <a:latin typeface="산돌고딕 M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608976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자동교환시스템 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vs 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전화교환원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태 나무"/>
              </a:rPr>
              <a:t>Venus Green, “Goodbye Central: Automation and the Decline of Personal Service in Bell System” (1995)</a:t>
            </a: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3254400"/>
            <a:ext cx="3016440" cy="30542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95280" y="2997360"/>
            <a:ext cx="2335320" cy="3309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2843280" y="4149720"/>
            <a:ext cx="29178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초기의 전화 사업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제한된 이용자 층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/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기존 통신 수단인 전신과 경쟁해야 하는 상황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새로운 유형의 고객 유치 위해 노력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개인서비스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&amp;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부가서비스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교환원의 역할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고객의 요구를 정중히 들어주고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최대한 편하게 전화를 이용하도록 조력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유능하고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신뢰할만하며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예의바른 하인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고객과 교환원의 규범적 관계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고객은 임의의 교환원이 아닌 정해진 한 명의 교환원과 통화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번호가 아닌 이름을 통한 연결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1920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년대 전화 교환시스템의 자동화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(1)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기술적 요인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자동교환 시스템이 기술적으로 안정적이 되었음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(2)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경제적 요인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</a:rPr>
              <a:t>임금상승 </a:t>
            </a:r>
            <a:r>
              <a:rPr b="1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</a:rPr>
              <a:t> 교환시스템의 자동화 필요성 절감 </a:t>
            </a:r>
            <a:endParaRPr b="1" lang="en-US" sz="21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(3)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문화적 요인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고객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-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교환원의 문화적 연결고리 점진적으로 약화 </a:t>
            </a:r>
            <a:r>
              <a:rPr b="1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</a:rPr>
              <a:t> 이 시기에 이르러 완전히 해체</a:t>
            </a:r>
            <a:endParaRPr b="1" lang="en-US" sz="21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549756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208560" y="1962000"/>
            <a:ext cx="254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1880</a:t>
            </a:r>
            <a:r>
              <a:rPr b="0" lang="zh-CN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년대 뉴욕 시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사진에 보이는 전선은 무엇</a:t>
            </a:r>
            <a:r>
              <a:rPr b="0" lang="en-US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헤르츠</a:t>
            </a:r>
            <a:r>
              <a:rPr b="0" lang="en-US" sz="3800" spc="-1" strike="noStrike">
                <a:solidFill>
                  <a:srgbClr val="cc0000"/>
                </a:solidFill>
                <a:latin typeface="산돌고딕B"/>
              </a:rPr>
              <a:t>(Hertz)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의 전자기파 발견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산돌고딕B"/>
              </a:rPr>
              <a:t>영국 물리학자 </a:t>
            </a:r>
            <a:r>
              <a:rPr b="0" lang="en-US" sz="2400" spc="-1" strike="noStrike">
                <a:solidFill>
                  <a:srgbClr val="000000"/>
                </a:solidFill>
                <a:latin typeface="산돌고딕B"/>
              </a:rPr>
              <a:t>Maxwell </a:t>
            </a:r>
            <a:r>
              <a:rPr b="1" lang="zh-CN" sz="2400" spc="-1" strike="noStrike">
                <a:solidFill>
                  <a:srgbClr val="000000"/>
                </a:solidFill>
                <a:latin typeface="산돌고딕B"/>
              </a:rPr>
              <a:t>전자기파를 이론적으로 예측</a:t>
            </a:r>
            <a:r>
              <a:rPr b="0" lang="en-US" sz="2400" spc="-1" strike="noStrike">
                <a:solidFill>
                  <a:srgbClr val="000000"/>
                </a:solidFill>
                <a:latin typeface="산돌고딕B"/>
              </a:rPr>
              <a:t>(1865)</a:t>
            </a:r>
            <a:endParaRPr b="1" lang="en-US" sz="24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빛은 전자기파의 일종”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 과연 전자기파란 것이 있는가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산돌고딕B"/>
              </a:rPr>
              <a:t>독일 물리학자 </a:t>
            </a:r>
            <a:r>
              <a:rPr b="0" lang="en-US" sz="2400" spc="-1" strike="noStrike">
                <a:solidFill>
                  <a:srgbClr val="000000"/>
                </a:solidFill>
                <a:latin typeface="산돌고딕B"/>
              </a:rPr>
              <a:t>Hertz </a:t>
            </a:r>
            <a:r>
              <a:rPr b="1" lang="zh-CN" sz="2400" spc="-1" strike="noStrike">
                <a:solidFill>
                  <a:srgbClr val="000000"/>
                </a:solidFill>
                <a:latin typeface="산돌고딕B"/>
              </a:rPr>
              <a:t>전자기파 실험적으로 발견</a:t>
            </a:r>
            <a:r>
              <a:rPr b="0" lang="en-US" sz="2400" spc="-1" strike="noStrike">
                <a:solidFill>
                  <a:srgbClr val="000000"/>
                </a:solidFill>
                <a:latin typeface="산돌고딕B"/>
              </a:rPr>
              <a:t>(1887)</a:t>
            </a:r>
            <a:endParaRPr b="1" lang="en-US" sz="24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몇 미터 떨어진 곳에서 전자기파 탐지 성공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편광상태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반사와 굴절 현상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간섭 등의 성질 조사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 빛과 같은 실체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수 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의 파장 길이 측정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 파장만 다른 빛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</p:txBody>
      </p:sp>
      <p:sp>
        <p:nvSpPr>
          <p:cNvPr id="198" name=""/>
          <p:cNvSpPr/>
          <p:nvPr/>
        </p:nvSpPr>
        <p:spPr>
          <a:xfrm>
            <a:off x="1146960" y="609300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Hertz</a:t>
            </a:r>
            <a:r>
              <a:rPr b="0" lang="zh-CN" sz="18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의 실험장치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(1887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826920" y="3645000"/>
            <a:ext cx="3100680" cy="22460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067280" y="3619440"/>
            <a:ext cx="47876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979640" y="1197000"/>
            <a:ext cx="5356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cc0000"/>
                </a:solidFill>
                <a:latin typeface="산돌고딕B"/>
              </a:rPr>
              <a:t>마르코니의 착상</a:t>
            </a:r>
            <a:r>
              <a:rPr b="1" lang="ko-KR" sz="3400" spc="-1" strike="noStrike">
                <a:solidFill>
                  <a:srgbClr val="cc0000"/>
                </a:solidFill>
                <a:latin typeface="산돌고딕B"/>
              </a:rPr>
              <a:t>: Wireless (</a:t>
            </a:r>
            <a:r>
              <a:rPr b="1" lang="ko-KR" sz="3400" spc="-1" strike="noStrike">
                <a:solidFill>
                  <a:srgbClr val="cc0000"/>
                </a:solidFill>
                <a:latin typeface="산돌고딕B"/>
              </a:rPr>
              <a:t>전선 없는 전신</a:t>
            </a:r>
            <a:r>
              <a:rPr b="1" lang="ko-KR" sz="3400" spc="-1" strike="noStrike">
                <a:solidFill>
                  <a:srgbClr val="cc0000"/>
                </a:solidFill>
                <a:latin typeface="산돌고딕B"/>
              </a:rPr>
              <a:t>)</a:t>
            </a:r>
            <a:endParaRPr b="1" lang="en-US" sz="34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206" name="" descr="wirelesstechnology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1413000"/>
            <a:ext cx="43099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당시 헤르츠 실험 장치의 의미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산돌고딕B"/>
              </a:rPr>
              <a:t>물리학자들에게 헤르츠 실험 장치란</a:t>
            </a:r>
            <a:r>
              <a:rPr b="1" lang="ko-KR" sz="24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전자기파 송신 거리 짧아 통신에 이용하기엔 부적합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실험도구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!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즉 실험실 밖으로 가져갈 물건이 아님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코히러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(coherer)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등 민감한 수신기 개발하긴 했지만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,</a:t>
            </a:r>
            <a:br>
              <a:rPr sz="1900"/>
            </a:b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전파의 송신거리를 늘리는 작업이 주된 관심 아니었음</a:t>
            </a:r>
            <a:endParaRPr b="1" lang="en-US" sz="19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전자기파의 속성을 연구하기 위한 광학장치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전자기파는 “보이지 않는 빛”</a:t>
            </a:r>
            <a:endParaRPr b="1" lang="en-US" sz="19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짧은 파장의 전자기파를 이용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.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편광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굴절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산란 현상 분석</a:t>
            </a:r>
            <a:endParaRPr b="1" lang="en-US" sz="19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올리버 로지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: “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발진기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-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광원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수신기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(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코히러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)-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눈” 비유</a:t>
            </a:r>
            <a:endParaRPr b="1" lang="en-US" sz="19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간혹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등대를 대체할 “배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-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해안 간 통신” 떠올리기도</a:t>
            </a:r>
            <a:endParaRPr b="1" lang="en-US" sz="1900" spc="-1" strike="noStrike">
              <a:solidFill>
                <a:srgbClr val="000000"/>
              </a:solidFill>
              <a:latin typeface="산돌고딕 L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유선전신의 기술자들은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확립된 전신의 확장과 개량에 몰두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짧은 전파거리의 전자기파에서는 가능성 찾지 않음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실용적 응용을 생각한 사람들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크룩스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러더퍼드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잭슨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마르코니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마르코니의 무선전신 개발 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(1894-1895)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이탈리아의 기술대학에서 전신 공부 중 헤르츠 실험 접함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헤르츠의 실험장치를 무선전신으로 개량하겠다는 목표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“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짧은 송수신 거리”를 결정적 문제로 파악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헤르츠 실험 장치 개량 시작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송신기 개량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1900" spc="-1" strike="noStrike">
                <a:solidFill>
                  <a:srgbClr val="000000"/>
                </a:solidFill>
                <a:latin typeface="산돌고딕 M"/>
              </a:rPr>
              <a:t>유도코일의 크기와 절연 보강 </a:t>
            </a:r>
            <a:r>
              <a:rPr b="1" lang="ko-KR" sz="1900" spc="-1" strike="noStrike">
                <a:solidFill>
                  <a:srgbClr val="000000"/>
                </a:solidFill>
                <a:latin typeface="산돌고딕 M"/>
              </a:rPr>
              <a:t>&amp; </a:t>
            </a:r>
            <a:r>
              <a:rPr b="1" lang="ko-KR" sz="1900" spc="-1" strike="noStrike">
                <a:solidFill>
                  <a:srgbClr val="000000"/>
                </a:solidFill>
                <a:latin typeface="산돌고딕 M"/>
              </a:rPr>
              <a:t>작은 송신 안테나 부착</a:t>
            </a:r>
            <a:endParaRPr b="1" lang="en-US" sz="19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수신기 개량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“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민감도”와 “안정성” 모두 높여야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코히러 부착 및 개량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민감도 증가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) &amp;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태퍼 부착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안정성 증가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계전기 연결 </a:t>
            </a:r>
            <a:r>
              <a:rPr b="1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 미약한 전류 증폭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유선전신에서 사용되던 장치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높은 저항 연결 </a:t>
            </a:r>
            <a:r>
              <a:rPr b="1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 유도전류에 의한 오작동 방지</a:t>
            </a:r>
            <a:endParaRPr b="1" lang="en-US" sz="18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코히러에 날개 모양의 컨덴서 부착 </a:t>
            </a:r>
            <a:r>
              <a:rPr b="1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 안테나 역할</a:t>
            </a:r>
            <a:endParaRPr b="1" lang="en-US" sz="1800" spc="-1" strike="noStrike">
              <a:solidFill>
                <a:srgbClr val="000000"/>
              </a:solidFill>
              <a:latin typeface="산돌고딕 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050920" y="4797360"/>
            <a:ext cx="3586320" cy="18604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895360" y="6237360"/>
            <a:ext cx="26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마르코니의 코히러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(1895-1905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마르코니의 송신기와 수신기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835344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2mile 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송수신 성공 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(1895)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산돌고딕B"/>
              </a:rPr>
              <a:t>안테나의 지면 접지 아이디어가 큰 몫 담당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유선전신과의  동일성 확보 노력의 일환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5832360" cy="353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210760" y="6308640"/>
            <a:ext cx="268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Marconi</a:t>
            </a:r>
            <a:r>
              <a:rPr b="0" lang="zh-CN" sz="14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의 첫 무선 시스템 특허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(1896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6516720" y="2637000"/>
            <a:ext cx="2448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당시 유선전신에서 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지면 접지는 필수적</a:t>
            </a: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접지를 하면 “대지 귀로</a:t>
            </a:r>
            <a:r>
              <a:rPr b="1" lang="en-US" sz="18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(earth return)” </a:t>
            </a:r>
            <a:r>
              <a:rPr b="1" lang="zh-CN" sz="18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원리에 의해 한 개의 전선만으로도 통신을 할 수 있기 때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411280" y="3213000"/>
            <a:ext cx="194472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2556000" y="4653000"/>
            <a:ext cx="1728720" cy="1655640"/>
          </a:xfrm>
          <a:prstGeom prst="ellipse">
            <a:avLst/>
          </a:prstGeom>
          <a:solidFill>
            <a:srgbClr val="a3b2c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203640" y="5950080"/>
            <a:ext cx="503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690560" y="3644640"/>
            <a:ext cx="1800" cy="215640"/>
          </a:xfrm>
          <a:prstGeom prst="line">
            <a:avLst/>
          </a:prstGeom>
          <a:ln w="1908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075280" y="3716280"/>
            <a:ext cx="1440" cy="360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843280" y="4941720"/>
            <a:ext cx="1440" cy="503280"/>
          </a:xfrm>
          <a:prstGeom prst="line">
            <a:avLst/>
          </a:prstGeom>
          <a:ln w="1908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3995640" y="5084640"/>
            <a:ext cx="1800" cy="360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286800" y="52293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산돌고딕 M"/>
                <a:ea typeface="산돌고딕 M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전신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(</a:t>
            </a:r>
            <a:r>
              <a:rPr b="0" lang="zh-CN" sz="3800" spc="-1" strike="noStrike">
                <a:solidFill>
                  <a:srgbClr val="cc0000"/>
                </a:solidFill>
                <a:latin typeface="산돌고딕B"/>
              </a:rPr>
              <a:t>電信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, Electric Telegraphy)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5373720"/>
            <a:ext cx="7929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쿠크와 모스는 과학의 문외한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휘트스톤은 전신의 상업적 중요성에 대해 무관심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00" name="" descr="William Cooke"/>
          <p:cNvPicPr/>
          <p:nvPr/>
        </p:nvPicPr>
        <p:blipFill>
          <a:blip r:embed="rId2"/>
          <a:stretch/>
        </p:blipFill>
        <p:spPr>
          <a:xfrm>
            <a:off x="611280" y="1413000"/>
            <a:ext cx="2400120" cy="3744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Charles Wheatstone"/>
          <p:cNvPicPr/>
          <p:nvPr/>
        </p:nvPicPr>
        <p:blipFill>
          <a:blip r:embed="rId3"/>
          <a:stretch/>
        </p:blipFill>
        <p:spPr>
          <a:xfrm>
            <a:off x="3132000" y="1557360"/>
            <a:ext cx="2565360" cy="3527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Sam Morse"/>
          <p:cNvPicPr/>
          <p:nvPr/>
        </p:nvPicPr>
        <p:blipFill>
          <a:blip r:embed="rId4"/>
          <a:stretch/>
        </p:blipFill>
        <p:spPr>
          <a:xfrm>
            <a:off x="5796000" y="1628640"/>
            <a:ext cx="2236680" cy="2952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76080" y="472428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Samuel Mors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마르코니의 무선전신 사업 개시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이탈리아에서 영국으로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! (1896)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이탈리아 국내의 반응 냉담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영국 체신국과의 교감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영국 특허 신청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 특허 인가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(1897)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이후 체신국과 인연 끊고 자신의 사업을 시작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특허의 중요성을 일찌감치 간파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1897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년 특허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+ 1900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년 동조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(tuning)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에 대한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7777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특허 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영국 최고의 변리사 몰턴 고용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. 2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개의 특허로 무선 사업 독점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산돌고딕B"/>
              </a:rPr>
              <a:t>시장은</a:t>
            </a:r>
            <a:r>
              <a:rPr b="1" lang="ko-KR" sz="24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영국의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Post Office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가 통신에 수수료를 받는 것을 불허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 처음에는 전신 장비를 돈을 받고 빌려주는 식으로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국내의 전신 시스템은 너무 잘 발달되어 있었음 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처음에는 틈새시장인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ship-to-shore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통신에 만족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1900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년 이후에 값비싼 해저전신 대체 시장 창출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33" name=""/>
          <p:cNvSpPr/>
          <p:nvPr/>
        </p:nvSpPr>
        <p:spPr>
          <a:xfrm>
            <a:off x="2785320" y="5805360"/>
            <a:ext cx="34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Marconi</a:t>
            </a:r>
            <a:r>
              <a:rPr b="1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와 그의 “블랙박스” </a:t>
            </a: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1897</a:t>
            </a:r>
            <a:r>
              <a:rPr b="1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경</a:t>
            </a: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900000" y="692280"/>
            <a:ext cx="73440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37" name=""/>
          <p:cNvSpPr/>
          <p:nvPr/>
        </p:nvSpPr>
        <p:spPr>
          <a:xfrm>
            <a:off x="2856960" y="5805360"/>
            <a:ext cx="34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Marconi</a:t>
            </a:r>
            <a:r>
              <a:rPr b="1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의 “블랙박스” 개봉 </a:t>
            </a: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1900</a:t>
            </a:r>
            <a:r>
              <a:rPr b="1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경</a:t>
            </a: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84360" y="1143000"/>
            <a:ext cx="7775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올리버 로지와의 분쟁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마르코니의 성공과 그 장치의 단순함 </a:t>
            </a:r>
            <a:r>
              <a:rPr b="1" lang="ko-K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 충격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로지의 주장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마르코니의 무선전신 장치는 이미 물리학자들에 의해 발명된 것들을 한 데 모아놓은 것에 불과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그러나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그들 장치는 전자기파 실험을 위한 장치였을 뿐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그것들 모아서 전신기 만들겠다는 목표를 세운 것은 마르코니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그것을 실용화할 만큼 개량하는 것도 간단한 일이 아니며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마르코니만의 아이디어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계전기 부착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안테나 접지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도 중요했음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오히려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마르코니의 강력한 특허권과 독점 성향과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특히 이탈리아 사업가의 영국 이익 침해 우려로 인한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마르코니의 영향력을 견제하기 위한 반발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그럼에도…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동조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(tuning, syntony) 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문제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4897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마르코니는 생각하지 못했음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영국의 물리학자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Lodge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가 처음으로 생각 </a:t>
            </a:r>
            <a:r>
              <a:rPr b="1" lang="ko-K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 특허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(1897)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로지의 해법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가변코일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L)  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특정 주파수의 신호만 송수신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Transmitter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를 박스 안에 넣기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일종의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closed circuit) 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균질하고 깨끗한 신호 송신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916360" y="2852640"/>
            <a:ext cx="928440" cy="13255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292720" y="1268280"/>
            <a:ext cx="3471840" cy="4783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447600" y="6091200"/>
            <a:ext cx="162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로지의 동조 특허 </a:t>
            </a:r>
            <a:r>
              <a:rPr b="0" lang="ko-KR" sz="14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(1897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219640" y="2637000"/>
            <a:ext cx="1224000" cy="57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8101080" y="4797360"/>
            <a:ext cx="792000" cy="71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마르코니의 동조 연구 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(</a:t>
            </a:r>
            <a:r>
              <a:rPr b="0" lang="ko-KR" sz="3800" spc="-1" strike="noStrike">
                <a:solidFill>
                  <a:srgbClr val="cc0000"/>
                </a:solidFill>
                <a:latin typeface="산돌고딕B"/>
              </a:rPr>
              <a:t>1898-1900)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시장의 요구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최대 고객이었던 군대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(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특히 해군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아무나 들을 수 있는 통신방식은 쓸 수 없음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로지의 공조 시스템의 약점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짧은 송신 거리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“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근본적 딜레마”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: open vs. closed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회로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마르코니의 “장거리” 무선전신 기획을 위해서는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로지의 동조 시스템은 채택 불가능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송신거리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+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특허 때문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[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장거리 송신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+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정밀한 동조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]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두 마리 토끼 잡아야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7777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특허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1900)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187280" y="3284640"/>
          <a:ext cx="6409080" cy="998280"/>
        </p:xfrm>
        <a:graphic>
          <a:graphicData uri="http://schemas.openxmlformats.org/drawingml/2006/table">
            <a:tbl>
              <a:tblPr/>
              <a:tblGrid>
                <a:gridCol w="1293840"/>
                <a:gridCol w="2522520"/>
                <a:gridCol w="2592720"/>
              </a:tblGrid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산돌고딕B"/>
                          <a:ea typeface="산돌고딕B"/>
                        </a:rPr>
                        <a:t>Marconi’s Open circu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ca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산돌고딕B"/>
                          <a:ea typeface="산돌고딕B"/>
                        </a:rPr>
                        <a:t>Lodge’s Closed circu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산돌고딕B"/>
                          <a:ea typeface="산돌고딕B"/>
                        </a:rPr>
                        <a:t>radiat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산돌고딕B"/>
                          <a:ea typeface="산돌고딕B"/>
                        </a:rPr>
                        <a:t>go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ca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산돌고딕B"/>
                          <a:ea typeface="산돌고딕B"/>
                        </a:rPr>
                        <a:t>b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산돌고딕B"/>
                          <a:ea typeface="산돌고딕B"/>
                        </a:rPr>
                        <a:t>oscillat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산돌고딕B"/>
                          <a:ea typeface="산돌고딕B"/>
                        </a:rPr>
                        <a:t>bad (dirty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fca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산돌고딕B"/>
                          <a:ea typeface="산돌고딕B"/>
                        </a:rPr>
                        <a:t>go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마르코니의 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7777 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특허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open(</a:t>
            </a:r>
            <a:r>
              <a:rPr b="0" lang="zh-CN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세고</a:t>
            </a:r>
            <a:r>
              <a:rPr b="0" lang="en-US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 + closed(</a:t>
            </a:r>
            <a:r>
              <a:rPr b="0" lang="zh-CN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정밀한</a:t>
            </a:r>
            <a:r>
              <a:rPr b="0" lang="en-US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 </a:t>
            </a:r>
            <a:r>
              <a:rPr b="0" lang="zh-CN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송신 회로가 관건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당시 물리학자들은 불가능하다고 보았음</a:t>
            </a: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100mile </a:t>
            </a:r>
            <a:r>
              <a:rPr b="0" lang="zh-CN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정도까지 무선전신 성공</a:t>
            </a: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2160720" cy="1712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2124000" y="2781360"/>
            <a:ext cx="3743280" cy="3062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5940360" y="1700280"/>
            <a:ext cx="2557440" cy="43210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48000" y="4724280"/>
            <a:ext cx="133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실린더 모양의 송수신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실패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!!!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3487680" y="5950080"/>
            <a:ext cx="15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Jigger(</a:t>
            </a:r>
            <a:r>
              <a:rPr b="0" lang="zh-CN" sz="14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일종의 변압기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6190560" y="609300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Georgia"/>
                <a:ea typeface="가는각진제목체"/>
              </a:rPr>
              <a:t>7777 </a:t>
            </a:r>
            <a:r>
              <a:rPr b="0" lang="zh-CN" sz="1800" spc="-1" strike="noStrike">
                <a:solidFill>
                  <a:srgbClr val="cc0000"/>
                </a:solidFill>
                <a:latin typeface="Georgia"/>
                <a:ea typeface="가는각진제목체"/>
              </a:rPr>
              <a:t>특허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(1900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5724360" y="1557360"/>
            <a:ext cx="1079640" cy="2951280"/>
          </a:xfrm>
          <a:prstGeom prst="ellipse">
            <a:avLst/>
          </a:prstGeom>
          <a:solidFill>
            <a:srgbClr val="a3b2c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659640" y="4149720"/>
            <a:ext cx="1152360" cy="1150920"/>
          </a:xfrm>
          <a:prstGeom prst="ellipse">
            <a:avLst/>
          </a:prstGeom>
          <a:solidFill>
            <a:srgbClr val="a3b2c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6372000" y="1197000"/>
            <a:ext cx="215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6456960" y="87012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산돌고딕 M"/>
                <a:ea typeface="산돌고딕 M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308720" y="530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7108200" y="54784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산돌고딕 M"/>
                <a:ea typeface="산돌고딕 M"/>
              </a:rPr>
              <a:t>clos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076720" y="4797000"/>
            <a:ext cx="1440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새로운 시장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: 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대서양 횡단 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9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반대 의견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지구는 둥글지만 전파는 직진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 전송거리 길어야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200mile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일 것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높은 전력을 필요로 할 텐데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주변 신호 교란할 것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현 재정상황에서 도박은 무리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마르코니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장파는 지표면으로 다닐 수 있다는 믿음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재정 상황 해결을 위해서라도 새로운 시장 개척해야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1901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년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12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월 유명한 대서양 무선전신 통신에 성공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(2000mile)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187280" y="4476600"/>
            <a:ext cx="5200920" cy="23814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516720" y="6237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이것 때문에 성공</a:t>
            </a: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84978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c0000"/>
                </a:solidFill>
                <a:latin typeface="산돌고딕B"/>
              </a:rPr>
              <a:t>영국 </a:t>
            </a:r>
            <a:r>
              <a:rPr b="0" lang="ko-KR" sz="3000" spc="-1" strike="noStrike">
                <a:solidFill>
                  <a:srgbClr val="cc0000"/>
                </a:solidFill>
                <a:latin typeface="산돌고딕B"/>
              </a:rPr>
              <a:t>Poldhu </a:t>
            </a:r>
            <a:r>
              <a:rPr b="0" lang="ko-KR" sz="3000" spc="-1" strike="noStrike">
                <a:solidFill>
                  <a:srgbClr val="000000"/>
                </a:solidFill>
                <a:latin typeface="산돌고딕B"/>
              </a:rPr>
              <a:t>---------</a:t>
            </a:r>
            <a:r>
              <a:rPr b="0" lang="ko-KR" sz="3000" spc="-1" strike="noStrike">
                <a:solidFill>
                  <a:srgbClr val="cc0000"/>
                </a:solidFill>
                <a:latin typeface="산돌고딕B"/>
              </a:rPr>
              <a:t> </a:t>
            </a:r>
            <a:r>
              <a:rPr b="0" lang="ko-KR" sz="3000" spc="-1" strike="noStrike">
                <a:solidFill>
                  <a:srgbClr val="cc0000"/>
                </a:solidFill>
                <a:latin typeface="산돌고딕B"/>
              </a:rPr>
              <a:t>캐나다 </a:t>
            </a:r>
            <a:r>
              <a:rPr b="0" lang="ko-KR" sz="3000" spc="-1" strike="noStrike">
                <a:solidFill>
                  <a:srgbClr val="cc0000"/>
                </a:solidFill>
                <a:latin typeface="산돌고딕B"/>
              </a:rPr>
              <a:t>Signal Hill, St. Johns </a:t>
            </a:r>
            <a:endParaRPr b="1" lang="en-US" sz="3000" spc="-1" strike="noStrike">
              <a:solidFill>
                <a:srgbClr val="cc0000"/>
              </a:solidFill>
              <a:latin typeface="산돌고딕B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3097440" cy="2690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3382920" cy="2378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708360" y="587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플레밍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발전소 시스템 전공 전기과학자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고용 </a:t>
            </a:r>
            <a:br>
              <a:rPr sz="1800"/>
            </a:b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발전공학과 접목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기존 송신기의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4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백배 출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3780000" y="2133720"/>
            <a:ext cx="5040000" cy="3036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471360" y="2212920"/>
            <a:ext cx="169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… S… S”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700000" y="62064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Georgia"/>
              </a:rPr>
              <a:t>2000mi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숨은 성공 요인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51051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전신 발명 스토리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과학 실험실의 실험기구들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(1920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년대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전지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전자석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검류계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스위치…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“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전기회로”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전기회로를 통신장치로 실용화하기 위한 과제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장거리 저항 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전지의 직렬 연결과 계전기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1930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년대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헨리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효율적인 부호 체계 및 가시화 장치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1937)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5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바늘 </a:t>
            </a: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2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바늘 </a:t>
            </a: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1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바늘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&amp;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사운더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쿠크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&amp;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휘트스톤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모스 부호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&amp;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프린터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or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사운더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모스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&amp;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베일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어디서 사용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?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타이타닉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(1912)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과 무선전신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9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산돌고딕B"/>
              </a:rPr>
              <a:t>타이타닉 사고를 둘러싼 무선전신 관련 이야기</a:t>
            </a: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인접한 캘리포니아호에서 빙산의 존재를 무전으로 알렸지만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타이타닉호는 다른 통신을 하고 있었기 때문에 사고를 당함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사고 직후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타이타닉호는 구조신호 “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CQD”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를 타전했지만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인접한 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캘리포니아호의 무선기사는 취침중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레나호는 무선장비 없었음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멀리 있던 카페이티아호에서 구조신호 수신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생존자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712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여명 구조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뉴욕의 데이비드 사노프는 사고 소식 수신하여 특종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위의 전신기사들 모두 마르코니 회사의 직원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아마추어 라디오 햄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(ham)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이 뉴스 메시지를 교란했다는 비난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귀결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라디오 법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(1912) &amp; </a:t>
            </a:r>
            <a:br>
              <a:rPr sz="2600"/>
            </a:b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무선통신의 국제기구 및 규약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모든 배는 무선전신 기기를 장착해야 함 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마르코니 회사 주식 폭등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마르코니 회사의 배타적 운영과 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통신사의 자질도 문제점으로 거론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상호통신 의무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조난통신의 절대 우선권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모든 선박에 대한 해안국 수신 의무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시간 정해 조난신호를 청취할 의무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조난신호 청취 위한 침묵시간 설정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혼신 및 교란 금지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&amp;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용도별 주파수 할당 및 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아마추어들의 전파 사용 제한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산돌고딕B"/>
              </a:rPr>
              <a:t>Cooke-Wheatstone 5-</a:t>
            </a:r>
            <a:r>
              <a:rPr b="1" lang="zh-CN" sz="3400" spc="-1" strike="noStrike">
                <a:solidFill>
                  <a:srgbClr val="cc0000"/>
                </a:solidFill>
                <a:latin typeface="산돌고딕B"/>
              </a:rPr>
              <a:t>바늘 전신기 </a:t>
            </a:r>
            <a:r>
              <a:rPr b="1" lang="en-US" sz="3400" spc="-1" strike="noStrike">
                <a:solidFill>
                  <a:srgbClr val="cc0000"/>
                </a:solidFill>
                <a:latin typeface="산돌고딕B"/>
              </a:rPr>
              <a:t>(1837)</a:t>
            </a:r>
            <a:endParaRPr b="1" lang="en-US" sz="34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3887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580000" y="1484280"/>
            <a:ext cx="296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산돌고딕B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산돌고딕B"/>
              </a:rPr>
              <a:t>개의 검류계 사용</a:t>
            </a:r>
            <a:endParaRPr b="1" lang="en-US" sz="24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산돌고딕B"/>
              </a:rPr>
              <a:t>작동법 매우 간단</a:t>
            </a:r>
            <a:endParaRPr b="1" lang="en-US" sz="24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산돌고딕B"/>
              </a:rPr>
              <a:t>But </a:t>
            </a:r>
            <a:r>
              <a:rPr b="1" lang="zh-CN" sz="2400" spc="-1" strike="noStrike">
                <a:solidFill>
                  <a:srgbClr val="000000"/>
                </a:solidFill>
                <a:latin typeface="산돌고딕B"/>
              </a:rPr>
              <a:t>비용 문제    </a:t>
            </a:r>
            <a:r>
              <a:rPr b="1" lang="en-US" sz="2400" spc="-1" strike="noStrike">
                <a:solidFill>
                  <a:srgbClr val="000000"/>
                </a:solidFill>
                <a:latin typeface="산돌고딕B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산돌고딕B"/>
              </a:rPr>
              <a:t>많은 전선 이용 탓</a:t>
            </a:r>
            <a:r>
              <a:rPr b="1" lang="en-US" sz="2400" spc="-1" strike="noStrike">
                <a:solidFill>
                  <a:srgbClr val="000000"/>
                </a:solidFill>
                <a:latin typeface="산돌고딕B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64000" y="1484280"/>
            <a:ext cx="2400120" cy="3313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2593800" cy="3457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11280" y="4724280"/>
            <a:ext cx="6243480" cy="1878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067280" y="2997360"/>
            <a:ext cx="217440" cy="287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148000" y="2997360"/>
            <a:ext cx="214200" cy="287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5148360" y="2997360"/>
            <a:ext cx="217440" cy="287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066920" y="2997360"/>
            <a:ext cx="214200" cy="287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427280" y="2997360"/>
            <a:ext cx="214200" cy="287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산돌고딕B"/>
              </a:rPr>
              <a:t>Cooke-Wheatstone 2-</a:t>
            </a:r>
            <a:r>
              <a:rPr b="1" lang="zh-CN" sz="3400" spc="-1" strike="noStrike">
                <a:solidFill>
                  <a:srgbClr val="cc0000"/>
                </a:solidFill>
                <a:latin typeface="산돌고딕B"/>
              </a:rPr>
              <a:t>바늘 전신기 </a:t>
            </a:r>
            <a:r>
              <a:rPr b="1" lang="en-US" sz="3400" spc="-1" strike="noStrike">
                <a:solidFill>
                  <a:srgbClr val="cc0000"/>
                </a:solidFill>
                <a:latin typeface="산돌고딕B"/>
              </a:rPr>
              <a:t>(1843)</a:t>
            </a:r>
            <a:endParaRPr b="1" lang="en-US" sz="3400" spc="-1" strike="noStrike">
              <a:solidFill>
                <a:srgbClr val="cc0000"/>
              </a:solidFill>
              <a:latin typeface="산돌고딕B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11280" y="1577880"/>
            <a:ext cx="2987640" cy="3651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780000" y="1483920"/>
            <a:ext cx="4760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바늘 동작 “횟수”로 문자 식별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Down-Down : A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D-D-D : B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D-Up : D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U-D-U-D : Y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London-Slough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철도 전신선 개통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(1843)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이후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1-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바늘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&amp;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사운더로 개량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11280" y="5084640"/>
            <a:ext cx="601668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Samuel Morse (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미국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)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5256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그림을 그리던 가난한 홀아비</a:t>
            </a: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1832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년 뉴욕으로 오던 배에서 전기실험 구경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 전자석을 이용한 신호 전달 구상</a:t>
            </a: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전신기 연구에 몰두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 장거리 전송 실패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게일로부터 헨리의 계전기 아이디어 배움</a:t>
            </a: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1837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년에 첫 전신기 발명 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매우 조악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Alfred Vail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과 동업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기기 개량 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+ Morse 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부호 </a:t>
            </a: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정부로부터 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3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만불의 지원을 얻어 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(1943)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워싱턴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-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볼티모어 전신 개설 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&amp; 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시연 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(1944)</a:t>
            </a: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757600" cy="3816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45480" y="4879800"/>
            <a:ext cx="24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Morse</a:t>
            </a: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의 첫 전신기 </a:t>
            </a: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1837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7200720" cy="2735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11280" y="3357720"/>
            <a:ext cx="7200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4:20:15Z</dcterms:created>
  <dc:creator>Woogie</dc:creator>
  <dc:description/>
  <dc:language>en-US</dc:language>
  <cp:lastModifiedBy>Woogie</cp:lastModifiedBy>
  <dcterms:modified xsi:type="dcterms:W3CDTF">2008-09-30T10:22:22Z</dcterms:modified>
  <cp:revision>102</cp:revision>
  <dc:subject/>
  <dc:title>중세 유럽의 과학</dc:title>
</cp:coreProperties>
</file>